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1B28-24F0-4F8A-9CDC-34895E66C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C678-8536-490A-B8A8-6EE9F3FDC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6AD3-E700-440A-BE57-37B9800D15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342A-6F46-4DD8-A0B2-87D3BCBB41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9C2C-2C50-4AB1-B399-C0D9E03AB4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0C9-0C33-42C0-861D-9C21D704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3B7-263A-49D3-A660-8A147E78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A40-038E-439C-B373-D6F51A48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C45-5FA1-4B9D-98DD-2FFB741B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9F0-B371-4BC8-8C34-BEB374F0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7A0-3614-49B3-B71A-9E2C7114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9FE-6428-46E9-B74C-1E43D410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766-66D9-4D0A-8AB8-BCD50AFB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3D1-2A09-4998-9B80-B59713AF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6A7-2F48-41C9-BEFD-868AF52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C42-7C5E-4CB2-9F3D-F2AA174D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118-8184-4E33-B0E7-DB1AAE8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7150-5928-4813-B050-79C6A480BA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4286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your name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comm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tween each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Grade Cortina Elem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Citizenship look lik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Picture1"/>
          <p:cNvPicPr/>
          <p:nvPr/>
        </p:nvPicPr>
        <p:blipFill>
          <a:blip r:embed="rId2"/>
          <a:stretch/>
        </p:blipFill>
        <p:spPr>
          <a:xfrm>
            <a:off x="5562720" y="232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pyright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2: www.skcbsa.or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6:51:27Z</dcterms:created>
  <dc:creator>asset1</dc:creator>
  <dc:description/>
  <dc:language>en-US</dc:language>
  <cp:lastModifiedBy>VQuarto</cp:lastModifiedBy>
  <dcterms:modified xsi:type="dcterms:W3CDTF">2009-11-05T18:47:45Z</dcterms:modified>
  <cp:revision>3</cp:revision>
  <dc:subject/>
  <dc:title>Respect</dc:title>
</cp:coreProperties>
</file>