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88B3-2131-497E-A1B0-51BFF0684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49CF-81CC-4104-AD95-B4F2725A82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9757-D625-4AEE-87B9-E707047ABD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5EF2-FB7D-45D1-97DB-D5D2FAE2BE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521D-6444-44E4-8A6C-B20DC66112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A8C5-3071-4E15-8193-8BBCD8CC6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392A-DA39-41EF-A286-C91AF555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93F1-9A27-484B-9FFB-5F04018CC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DAA4-FDC6-4578-9542-348061E35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888A-4A91-4657-A40F-88209B46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8532-076E-454B-B11D-CFD97418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7DF0-FD09-4F8C-9435-E5DE0934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507E-8CC6-43E8-A310-08338FA3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525A-E415-4DE3-B669-7CAAB729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E5E0-C46E-43AF-8DC7-0FC8543D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8CBC-FC27-44D1-AD57-2DCBF3A9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0C82-568D-4B6B-AA12-2F038DEA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CD5D-788A-49AD-801C-2AF35C39E2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itizensh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1760" y="3428640"/>
            <a:ext cx="7543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your names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a comma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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etween each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Grade Cortina Elemen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does Citizenship look lik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8" descr="Picture1"/>
          <p:cNvPicPr/>
          <p:nvPr/>
        </p:nvPicPr>
        <p:blipFill>
          <a:blip r:embed="rId2"/>
          <a:stretch/>
        </p:blipFill>
        <p:spPr>
          <a:xfrm>
            <a:off x="5562720" y="23274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pyright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ide 2: www.skcbsa.or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3T16:51:27Z</dcterms:created>
  <dc:creator>asset1</dc:creator>
  <dc:description/>
  <dc:language>en-US</dc:language>
  <cp:lastModifiedBy>VQuarto</cp:lastModifiedBy>
  <dcterms:modified xsi:type="dcterms:W3CDTF">2009-11-05T18:47:45Z</dcterms:modified>
  <cp:revision>3</cp:revision>
  <dc:subject/>
  <dc:title>Respect</dc:title>
</cp:coreProperties>
</file>