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189E-4D51-4D1D-8D16-CAA6A1E1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CD9-AA04-428E-9545-AC0EA0C37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42DA-6FB7-4B4B-B7F4-407957BD4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F2C5-CDD0-4741-9C11-76C1B7ED5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81E-0724-464B-AE48-D425875CE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CA2-407D-4EDA-97B6-2B5B3476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7D7-2F6D-41F7-A82B-DE0A9F5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1DC-DEA4-4BA7-9F21-4CCD3348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B1C-C58D-425F-9A3D-364CCAD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B6A-5A8F-4D67-B40D-D3DE086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70E-8203-44AE-9FF9-699A0F1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E66-BF11-411A-B3F6-9EB6784C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8E1-D6BC-4CDD-BD3A-B203A4FF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2FE-D7E9-4D6D-8106-ABBFD8C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6AB-00D3-4D86-8199-B7B4AF6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212-461E-447D-BDA9-017A76D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BC9-2002-4117-B20D-326EB97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287-6F74-45C4-976E-3BB5007896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your nam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comm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each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Grade Cortina Elem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Citizenship look lik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Picture1"/>
          <p:cNvPicPr/>
          <p:nvPr/>
        </p:nvPicPr>
        <p:blipFill>
          <a:blip r:embed="rId2"/>
          <a:stretch/>
        </p:blipFill>
        <p:spPr>
          <a:xfrm>
            <a:off x="5562720" y="232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: www.skcbsa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51:27Z</dcterms:created>
  <dc:creator>asset1</dc:creator>
  <dc:description/>
  <dc:language>en-US</dc:language>
  <cp:lastModifiedBy>VQuarto</cp:lastModifiedBy>
  <dcterms:modified xsi:type="dcterms:W3CDTF">2009-11-05T18:47:45Z</dcterms:modified>
  <cp:revision>3</cp:revision>
  <dc:subject/>
  <dc:title>Respect</dc:title>
</cp:coreProperties>
</file>