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B975-CA4C-414B-94A5-5EA548D8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1E0E-E2BB-49CE-A643-28E6FDE11B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E59-C18D-41F4-B9B0-EF19ADB503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4A12-C472-4702-88CE-13DBC2EB0D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A996-CB65-461C-A09A-96C5E5A756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60E-80C7-416B-83F8-9DACE06C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ABD-5252-49ED-B8CD-1239ABF4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81A-EE8B-4843-990D-713B1CB6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4D4-280A-4B68-B630-7DED7599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756-E97A-4B4E-ADAE-08B9558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F4B-B22A-43E7-A7B1-92BA628D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585-AB7E-4430-9346-B529C4D8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2E0-1934-4FCC-9ED3-7C8F8790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E6B-E0C8-4C2D-86A2-4DA16E4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906-DA01-4140-931A-71E42E5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5FB-552F-43E3-9B79-38FCA67C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9D3-226C-4FA9-9DA8-8BA9016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7DB8-8FA4-4095-9188-738BB3BD2B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428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your nam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comm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each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Grade Cortina Elem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Citizenship look lik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Picture1"/>
          <p:cNvPicPr/>
          <p:nvPr/>
        </p:nvPicPr>
        <p:blipFill>
          <a:blip r:embed="rId2"/>
          <a:stretch/>
        </p:blipFill>
        <p:spPr>
          <a:xfrm>
            <a:off x="5562720" y="232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pyrigh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2: www.skcbsa.or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6:51:27Z</dcterms:created>
  <dc:creator>asset1</dc:creator>
  <dc:description/>
  <dc:language>en-US</dc:language>
  <cp:lastModifiedBy>VQuarto</cp:lastModifiedBy>
  <dcterms:modified xsi:type="dcterms:W3CDTF">2009-11-05T18:47:45Z</dcterms:modified>
  <cp:revision>3</cp:revision>
  <dc:subject/>
  <dc:title>Respect</dc:title>
</cp:coreProperties>
</file>